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gif" ContentType="image/gif"/>
  <Override PartName="/ppt/media/image23.jpeg" ContentType="image/jpeg"/>
  <Override PartName="/ppt/media/image21.jpeg" ContentType="image/jpeg"/>
  <Override PartName="/ppt/media/image22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6.gif" ContentType="image/gif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2C3-236F-4668-A963-5B706F8F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5D1-0D0D-40F3-81AD-6413DF9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550-F4F4-4269-AEE0-C954437D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CB-2912-4A48-AA7B-2334200E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FEF6-E60D-4A15-82A4-BFE7949C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87E0-ED2F-4CBF-BE92-3A60EE88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6B1-E051-4324-AFF0-80BAE06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03F8-9C6E-4232-963C-5A484501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04DF-7225-4B1A-82A9-D3540E9F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A99F-9DEE-4E14-86E2-AF500772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8FA7-C5FD-4757-84BE-DE444694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B74-23C9-44C3-99BC-216FBE3D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0452-7B8C-4B9B-BA9B-C90076E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1722-191A-43C5-8CBF-B96FD2E1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1EBC-C00D-4A92-A560-5A0E496A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00C-96C5-4CCB-8A78-DE022A544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CBBA-6CE9-4358-960B-CF265B40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BF14-FC32-48AA-B1C3-96483114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B50-9029-4F37-9C4A-D50C8A4E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488-FEBC-4738-8C51-EF2C6844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69C-8574-43F7-969F-110E1ADF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1F8-23C7-43AE-9CDE-086EEE3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C03-5929-4389-A279-D8A4C3EF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E1A-4435-4589-A0E7-5B9E0C8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A3B8-C160-4855-A3D8-AEF386E3ACD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13CA-7AC8-4E66-8A27-C4DD52FC364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hyperlink" Target="file:///tmp/home/.config/libreoffice/4/user/gallery/cashreg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4764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river_thames10_m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8"/>
          <p:cNvSpPr txBox="1"/>
          <p:nvPr/>
        </p:nvSpPr>
        <p:spPr>
          <a:xfrm>
            <a:off x="1042920" y="465300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50000">
                      <a:srgbClr val="33ccff"/>
                    </a:gs>
                    <a:gs pos="100000">
                      <a:srgbClr val="3333ff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River Tham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50000">
                    <a:srgbClr val="33ccff"/>
                  </a:gs>
                  <a:gs pos="100000">
                    <a:srgbClr val="3333ff"/>
                  </a:gs>
                </a:gsLst>
                <a:lin ang="27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2410920" y="1268280"/>
            <a:ext cx="208764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2700360" y="692280"/>
            <a:ext cx="442908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w Dirty is the water!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1" name="~PP3066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www.gifworks.com/queue/4963049_24308.gif"/>
          <p:cNvPicPr/>
          <p:nvPr/>
        </p:nvPicPr>
        <p:blipFill>
          <a:blip r:embed="rId1"/>
          <a:stretch/>
        </p:blipFill>
        <p:spPr>
          <a:xfrm>
            <a:off x="2428920" y="304812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Rectangle 3" descr=""/>
          <p:cNvPicPr/>
          <p:nvPr/>
        </p:nvPicPr>
        <p:blipFill>
          <a:blip r:embed="rId2"/>
          <a:stretch/>
        </p:blipFill>
        <p:spPr>
          <a:xfrm>
            <a:off x="1170000" y="244440"/>
            <a:ext cx="7211880" cy="2773440"/>
          </a:xfrm>
          <a:prstGeom prst="rect">
            <a:avLst/>
          </a:prstGeom>
          <a:ln w="0">
            <a:noFill/>
          </a:ln>
        </p:spPr>
      </p:pic>
      <p:sp>
        <p:nvSpPr>
          <p:cNvPr id="130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715080" y="5357880"/>
            <a:ext cx="642960" cy="642960"/>
          </a:xfrm>
          <a:custGeom>
            <a:avLst/>
            <a:gdLst>
              <a:gd name="textAreaLeft" fmla="*/ 41400 w 642960"/>
              <a:gd name="textAreaRight" fmla="*/ 601560 w 64296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~PP2570.WAV" descr=""/>
          <p:cNvPicPr/>
          <p:nvPr/>
        </p:nvPicPr>
        <p:blipFill>
          <a:blip r:embed="rId4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gifworks.com/queue/4950411_24555.gif"/>
          <p:cNvPicPr/>
          <p:nvPr/>
        </p:nvPicPr>
        <p:blipFill>
          <a:blip r:embed="rId1"/>
          <a:stretch/>
        </p:blipFill>
        <p:spPr>
          <a:xfrm>
            <a:off x="2214720" y="228600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2" descr=""/>
          <p:cNvPicPr/>
          <p:nvPr/>
        </p:nvPicPr>
        <p:blipFill>
          <a:blip r:embed="rId2"/>
          <a:stretch/>
        </p:blipFill>
        <p:spPr>
          <a:xfrm>
            <a:off x="1542960" y="566640"/>
            <a:ext cx="5461200" cy="1212840"/>
          </a:xfrm>
          <a:prstGeom prst="rect">
            <a:avLst/>
          </a:prstGeom>
          <a:ln w="0">
            <a:noFill/>
          </a:ln>
        </p:spPr>
      </p:pic>
      <p:pic>
        <p:nvPicPr>
          <p:cNvPr id="134" name="~PP393.WAV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Rectangle 3" descr=""/>
          <p:cNvPicPr/>
          <p:nvPr/>
        </p:nvPicPr>
        <p:blipFill>
          <a:blip r:embed="rId1"/>
          <a:stretch/>
        </p:blipFill>
        <p:spPr>
          <a:xfrm>
            <a:off x="-201600" y="158760"/>
            <a:ext cx="9431280" cy="1152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8584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The Thames is getting worse and we are running out of tim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7" name="Picture 9" descr="Speeding hands on clock dial Animated Clipart&#10;&#10;"/>
          <p:cNvPicPr/>
          <p:nvPr/>
        </p:nvPicPr>
        <p:blipFill>
          <a:blip r:embed="rId2"/>
          <a:stretch/>
        </p:blipFill>
        <p:spPr>
          <a:xfrm>
            <a:off x="2714760" y="3071880"/>
            <a:ext cx="2762280" cy="2762280"/>
          </a:xfrm>
          <a:prstGeom prst="rect">
            <a:avLst/>
          </a:prstGeom>
          <a:ln w="0">
            <a:noFill/>
          </a:ln>
        </p:spPr>
      </p:pic>
      <p:pic>
        <p:nvPicPr>
          <p:cNvPr id="138" name="~PP1670.WAV" descr=""/>
          <p:cNvPicPr/>
          <p:nvPr/>
        </p:nvPicPr>
        <p:blipFill>
          <a:blip r:embed="rId3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Ink 10"/>
          <p:cNvSpPr/>
          <p:nvPr/>
        </p:nvSpPr>
        <p:spPr>
          <a:xfrm>
            <a:off x="3057480" y="5729400"/>
            <a:ext cx="1951200" cy="36360"/>
          </a:xfrm>
          <a:custGeom>
            <a:avLst/>
            <a:gdLst/>
            <a:ahLst/>
            <a:rect l="l" t="t" r="r" b="b"/>
            <a:pathLst>
              <a:path w="5418" h="100">
                <a:moveTo>
                  <a:pt x="8493" y="15954"/>
                </a:moveTo>
                <a:cubicBezTo>
                  <a:pt x="8750" y="15954"/>
                  <a:pt x="8995" y="15969"/>
                  <a:pt x="9247" y="15994"/>
                </a:cubicBezTo>
                <a:cubicBezTo>
                  <a:pt x="9815" y="16050"/>
                  <a:pt x="10405" y="15981"/>
                  <a:pt x="10974" y="16014"/>
                </a:cubicBezTo>
                <a:cubicBezTo>
                  <a:pt x="11365" y="16037"/>
                  <a:pt x="11804" y="16050"/>
                  <a:pt x="12184" y="15994"/>
                </a:cubicBezTo>
                <a:cubicBezTo>
                  <a:pt x="12285" y="15979"/>
                  <a:pt x="12382" y="15977"/>
                  <a:pt x="12482" y="15954"/>
                </a:cubicBezTo>
                <a:cubicBezTo>
                  <a:pt x="12613" y="15924"/>
                  <a:pt x="12704" y="15915"/>
                  <a:pt x="12839" y="15915"/>
                </a:cubicBezTo>
                <a:cubicBezTo>
                  <a:pt x="13080" y="15915"/>
                  <a:pt x="13314" y="15924"/>
                  <a:pt x="13553" y="15935"/>
                </a:cubicBezTo>
                <a:cubicBezTo>
                  <a:pt x="13671" y="15941"/>
                  <a:pt x="13791" y="15935"/>
                  <a:pt x="13910" y="1593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Ink 11"/>
          <p:cNvSpPr/>
          <p:nvPr/>
        </p:nvSpPr>
        <p:spPr>
          <a:xfrm>
            <a:off x="3394080" y="5543640"/>
            <a:ext cx="1320840" cy="14040"/>
          </a:xfrm>
          <a:custGeom>
            <a:avLst/>
            <a:gdLst/>
            <a:ahLst/>
            <a:rect l="l" t="t" r="r" b="b"/>
            <a:pathLst>
              <a:path w="3672" h="40">
                <a:moveTo>
                  <a:pt x="13097" y="15438"/>
                </a:moveTo>
                <a:cubicBezTo>
                  <a:pt x="13028" y="15438"/>
                  <a:pt x="12956" y="15424"/>
                  <a:pt x="12898" y="15419"/>
                </a:cubicBezTo>
                <a:cubicBezTo>
                  <a:pt x="12839" y="15414"/>
                  <a:pt x="12794" y="15403"/>
                  <a:pt x="12740" y="15399"/>
                </a:cubicBezTo>
                <a:cubicBezTo>
                  <a:pt x="12562" y="15384"/>
                  <a:pt x="12375" y="15406"/>
                  <a:pt x="12204" y="15419"/>
                </a:cubicBezTo>
                <a:cubicBezTo>
                  <a:pt x="11762" y="15453"/>
                  <a:pt x="11261" y="15447"/>
                  <a:pt x="10835" y="15399"/>
                </a:cubicBezTo>
                <a:cubicBezTo>
                  <a:pt x="10378" y="15348"/>
                  <a:pt x="9887" y="15399"/>
                  <a:pt x="9426" y="1539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Ink 12"/>
          <p:cNvSpPr/>
          <p:nvPr/>
        </p:nvSpPr>
        <p:spPr>
          <a:xfrm>
            <a:off x="3071880" y="5749920"/>
            <a:ext cx="1957320" cy="44280"/>
          </a:xfrm>
          <a:custGeom>
            <a:avLst/>
            <a:gdLst/>
            <a:ahLst/>
            <a:rect l="l" t="t" r="r" b="b"/>
            <a:pathLst>
              <a:path w="5438" h="120">
                <a:moveTo>
                  <a:pt x="8533" y="15994"/>
                </a:moveTo>
                <a:cubicBezTo>
                  <a:pt x="8884" y="15994"/>
                  <a:pt x="9238" y="15994"/>
                  <a:pt x="9585" y="15974"/>
                </a:cubicBezTo>
                <a:cubicBezTo>
                  <a:pt x="9838" y="15960"/>
                  <a:pt x="10090" y="16000"/>
                  <a:pt x="10339" y="16034"/>
                </a:cubicBezTo>
                <a:cubicBezTo>
                  <a:pt x="10453" y="16050"/>
                  <a:pt x="10563" y="16085"/>
                  <a:pt x="10676" y="16093"/>
                </a:cubicBezTo>
                <a:cubicBezTo>
                  <a:pt x="10906" y="16110"/>
                  <a:pt x="11146" y="16092"/>
                  <a:pt x="11370" y="16054"/>
                </a:cubicBezTo>
                <a:cubicBezTo>
                  <a:pt x="11441" y="16042"/>
                  <a:pt x="11518" y="16022"/>
                  <a:pt x="11589" y="16014"/>
                </a:cubicBezTo>
                <a:cubicBezTo>
                  <a:pt x="12259" y="15943"/>
                  <a:pt x="12981" y="16005"/>
                  <a:pt x="13652" y="16034"/>
                </a:cubicBezTo>
                <a:cubicBezTo>
                  <a:pt x="13758" y="16038"/>
                  <a:pt x="13864" y="16034"/>
                  <a:pt x="13970" y="16034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Ink 13"/>
          <p:cNvSpPr/>
          <p:nvPr/>
        </p:nvSpPr>
        <p:spPr>
          <a:xfrm>
            <a:off x="3451320" y="5537160"/>
            <a:ext cx="1235160" cy="28440"/>
          </a:xfrm>
          <a:custGeom>
            <a:avLst/>
            <a:gdLst/>
            <a:ahLst/>
            <a:rect l="l" t="t" r="r" b="b"/>
            <a:pathLst>
              <a:path w="3434" h="80">
                <a:moveTo>
                  <a:pt x="9585" y="15399"/>
                </a:moveTo>
                <a:cubicBezTo>
                  <a:pt x="9719" y="15399"/>
                  <a:pt x="9900" y="15390"/>
                  <a:pt x="10001" y="15379"/>
                </a:cubicBezTo>
                <a:cubicBezTo>
                  <a:pt x="10524" y="15321"/>
                  <a:pt x="11092" y="15385"/>
                  <a:pt x="11609" y="15419"/>
                </a:cubicBezTo>
                <a:cubicBezTo>
                  <a:pt x="11762" y="15429"/>
                  <a:pt x="11914" y="15416"/>
                  <a:pt x="12065" y="15438"/>
                </a:cubicBezTo>
                <a:cubicBezTo>
                  <a:pt x="12153" y="15451"/>
                  <a:pt x="12233" y="15458"/>
                  <a:pt x="12323" y="15458"/>
                </a:cubicBezTo>
                <a:cubicBezTo>
                  <a:pt x="12555" y="15458"/>
                  <a:pt x="12786" y="15458"/>
                  <a:pt x="13018" y="15458"/>
                </a:cubicBezTo>
              </a:path>
            </a:pathLst>
          </a:custGeom>
          <a:noFill/>
          <a:ln cap="sq" w="127080">
            <a:solidFill>
              <a:srgbClr val="0000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http://www.thamesboatcruises.com/Bridge%20Lift.jpg"/>
          <p:cNvPicPr/>
          <p:nvPr/>
        </p:nvPicPr>
        <p:blipFill>
          <a:blip r:embed="rId1"/>
          <a:stretch/>
        </p:blipFill>
        <p:spPr>
          <a:xfrm>
            <a:off x="1928880" y="2500200"/>
            <a:ext cx="5214960" cy="4238640"/>
          </a:xfrm>
          <a:prstGeom prst="rect">
            <a:avLst/>
          </a:prstGeom>
          <a:ln w="0">
            <a:noFill/>
          </a:ln>
        </p:spPr>
      </p:pic>
      <p:cxnSp>
        <p:nvCxnSpPr>
          <p:cNvPr id="144" name="Straight Arrow Connector 14"/>
          <p:cNvCxnSpPr/>
          <p:nvPr/>
        </p:nvCxnSpPr>
        <p:spPr>
          <a:xfrm flipH="1">
            <a:off x="5214240" y="928800"/>
            <a:ext cx="1429560" cy="13579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f5f9"/>
                </a:solidFill>
                <a:latin typeface="Calibri"/>
              </a:rPr>
              <a:t>A bridge over the Thames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46" name="~PP434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http://msmlondon.files.wordpress.com/2008/02/river-thames.jpg"/>
          <p:cNvPicPr/>
          <p:nvPr/>
        </p:nvPicPr>
        <p:blipFill>
          <a:blip r:embed="rId1"/>
          <a:stretch/>
        </p:blipFill>
        <p:spPr>
          <a:xfrm>
            <a:off x="1857240" y="2143080"/>
            <a:ext cx="4668840" cy="350064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4"/>
          <p:cNvCxnSpPr/>
          <p:nvPr/>
        </p:nvCxnSpPr>
        <p:spPr>
          <a:xfrm flipH="1">
            <a:off x="5714640" y="785520"/>
            <a:ext cx="1000800" cy="1572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dbf5f9"/>
                </a:solidFill>
                <a:latin typeface="Calibri"/>
              </a:rPr>
              <a:t>View of the Thames from above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0" name="~PP88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http://www.holidayuk.co.uk/afloat/map_images/thames.gif"/>
          <p:cNvPicPr/>
          <p:nvPr/>
        </p:nvPicPr>
        <p:blipFill>
          <a:blip r:embed="rId1"/>
          <a:stretch/>
        </p:blipFill>
        <p:spPr>
          <a:xfrm>
            <a:off x="1714680" y="1857240"/>
            <a:ext cx="5238720" cy="37148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dbf5f9"/>
                </a:solidFill>
                <a:latin typeface="Calibri"/>
              </a:rPr>
              <a:t>Map of the Tham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53" name="~PP1525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f5f9"/>
                </a:solidFill>
                <a:latin typeface="Calibri"/>
              </a:rPr>
              <a:t>Which three issues are actually happening to the Thames?</a:t>
            </a:r>
            <a:endParaRPr b="0" lang="en-US" sz="4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324000" y="1916280"/>
            <a:ext cx="1081080" cy="1079280"/>
          </a:xfrm>
          <a:custGeom>
            <a:avLst/>
            <a:gdLst>
              <a:gd name="textAreaLeft" fmla="*/ 69840 w 1081080"/>
              <a:gd name="textAreaRight" fmla="*/ 1011240 w 108108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250920" y="3500280"/>
            <a:ext cx="1152360" cy="1152720"/>
          </a:xfrm>
          <a:custGeom>
            <a:avLst/>
            <a:gdLst>
              <a:gd name="textAreaLeft" fmla="*/ 74520 w 1152360"/>
              <a:gd name="textAreaRight" fmla="*/ 1077840 w 1152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50920" y="5084640"/>
            <a:ext cx="1224000" cy="122400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675080" y="1936800"/>
            <a:ext cx="16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uise boa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colou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530360" y="3521160"/>
            <a:ext cx="101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bb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79240" y="5229360"/>
            <a:ext cx="176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ic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~PP2433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Is the Thames in??????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611280" y="2276640"/>
            <a:ext cx="1296720" cy="1008000"/>
          </a:xfrm>
          <a:custGeom>
            <a:avLst/>
            <a:gdLst>
              <a:gd name="textAreaLeft" fmla="*/ 65160 w 1296720"/>
              <a:gd name="textAreaRight" fmla="*/ 1231560 w 1296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85" h="21600">
                <a:moveTo>
                  <a:pt x="0" y="0"/>
                </a:moveTo>
                <a:lnTo>
                  <a:pt x="27785" y="0"/>
                </a:lnTo>
                <a:lnTo>
                  <a:pt x="27785" y="21600"/>
                </a:lnTo>
                <a:lnTo>
                  <a:pt x="0" y="21600"/>
                </a:lnTo>
                <a:close/>
              </a:path>
              <a:path fill="lightenLess" w="27785" h="21600">
                <a:moveTo>
                  <a:pt x="0" y="0"/>
                </a:moveTo>
                <a:lnTo>
                  <a:pt x="27785" y="0"/>
                </a:lnTo>
                <a:lnTo>
                  <a:pt x="26385" y="1400"/>
                </a:lnTo>
                <a:lnTo>
                  <a:pt x="1400" y="1400"/>
                </a:lnTo>
                <a:close/>
              </a:path>
              <a:path fill="darken" w="27785" h="21600">
                <a:moveTo>
                  <a:pt x="27785" y="0"/>
                </a:moveTo>
                <a:lnTo>
                  <a:pt x="27785" y="21600"/>
                </a:lnTo>
                <a:lnTo>
                  <a:pt x="26385" y="20200"/>
                </a:lnTo>
                <a:lnTo>
                  <a:pt x="26385" y="1400"/>
                </a:lnTo>
                <a:close/>
              </a:path>
              <a:path fill="darkenLess" w="27785" h="21600">
                <a:moveTo>
                  <a:pt x="27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5" y="20200"/>
                </a:lnTo>
                <a:close/>
              </a:path>
              <a:path fill="lighten" w="27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5" h="21600">
                <a:moveTo>
                  <a:pt x="1389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85" h="21600">
                <a:moveTo>
                  <a:pt x="14998" y="14281"/>
                </a:moveTo>
                <a:lnTo>
                  <a:pt x="14998" y="12323"/>
                </a:lnTo>
                <a:cubicBezTo>
                  <a:pt x="14998" y="11496"/>
                  <a:pt x="15328" y="10800"/>
                  <a:pt x="15929" y="10800"/>
                </a:cubicBezTo>
                <a:cubicBezTo>
                  <a:pt x="17060" y="10800"/>
                  <a:pt x="17957" y="9434"/>
                  <a:pt x="17957" y="7849"/>
                </a:cubicBezTo>
                <a:cubicBezTo>
                  <a:pt x="17957" y="5534"/>
                  <a:pt x="16103" y="3794"/>
                  <a:pt x="13892" y="3794"/>
                </a:cubicBezTo>
                <a:cubicBezTo>
                  <a:pt x="11682" y="3794"/>
                  <a:pt x="10010" y="5534"/>
                  <a:pt x="10010" y="7849"/>
                </a:cubicBezTo>
                <a:lnTo>
                  <a:pt x="11864" y="7849"/>
                </a:lnTo>
                <a:cubicBezTo>
                  <a:pt x="11864" y="6709"/>
                  <a:pt x="12787" y="5821"/>
                  <a:pt x="13892" y="5821"/>
                </a:cubicBezTo>
                <a:cubicBezTo>
                  <a:pt x="14998" y="5821"/>
                  <a:pt x="15929" y="6709"/>
                  <a:pt x="15929" y="7849"/>
                </a:cubicBezTo>
                <a:cubicBezTo>
                  <a:pt x="15929" y="8589"/>
                  <a:pt x="15459" y="9320"/>
                  <a:pt x="14998" y="9320"/>
                </a:cubicBezTo>
                <a:cubicBezTo>
                  <a:pt x="13892" y="9320"/>
                  <a:pt x="12787" y="10800"/>
                  <a:pt x="12787" y="12323"/>
                </a:cubicBezTo>
                <a:lnTo>
                  <a:pt x="12787" y="1428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539640" y="3645000"/>
            <a:ext cx="1297080" cy="1008000"/>
          </a:xfrm>
          <a:custGeom>
            <a:avLst/>
            <a:gdLst>
              <a:gd name="textAreaLeft" fmla="*/ 65160 w 1297080"/>
              <a:gd name="textAreaRight" fmla="*/ 1231920 w 12970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92" h="21600">
                <a:moveTo>
                  <a:pt x="0" y="0"/>
                </a:moveTo>
                <a:lnTo>
                  <a:pt x="27792" y="0"/>
                </a:lnTo>
                <a:lnTo>
                  <a:pt x="27792" y="21600"/>
                </a:lnTo>
                <a:lnTo>
                  <a:pt x="0" y="21600"/>
                </a:lnTo>
                <a:close/>
              </a:path>
              <a:path fill="lightenLess" w="27792" h="21600">
                <a:moveTo>
                  <a:pt x="0" y="0"/>
                </a:moveTo>
                <a:lnTo>
                  <a:pt x="27792" y="0"/>
                </a:lnTo>
                <a:lnTo>
                  <a:pt x="26392" y="1400"/>
                </a:lnTo>
                <a:lnTo>
                  <a:pt x="1400" y="1400"/>
                </a:lnTo>
                <a:close/>
              </a:path>
              <a:path fill="darken" w="27792" h="21600">
                <a:moveTo>
                  <a:pt x="27792" y="0"/>
                </a:moveTo>
                <a:lnTo>
                  <a:pt x="27792" y="21600"/>
                </a:lnTo>
                <a:lnTo>
                  <a:pt x="26392" y="20200"/>
                </a:lnTo>
                <a:lnTo>
                  <a:pt x="26392" y="1400"/>
                </a:lnTo>
                <a:close/>
              </a:path>
              <a:path fill="darkenLess" w="27792" h="21600">
                <a:moveTo>
                  <a:pt x="27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2" y="20200"/>
                </a:lnTo>
                <a:close/>
              </a:path>
              <a:path fill="lighten" w="27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2" h="21600">
                <a:moveTo>
                  <a:pt x="1389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92" h="21600">
                <a:moveTo>
                  <a:pt x="15002" y="14281"/>
                </a:moveTo>
                <a:lnTo>
                  <a:pt x="15002" y="12323"/>
                </a:lnTo>
                <a:cubicBezTo>
                  <a:pt x="15002" y="11496"/>
                  <a:pt x="15332" y="10800"/>
                  <a:pt x="15933" y="10800"/>
                </a:cubicBezTo>
                <a:cubicBezTo>
                  <a:pt x="17064" y="10800"/>
                  <a:pt x="17961" y="9434"/>
                  <a:pt x="17961" y="7849"/>
                </a:cubicBezTo>
                <a:cubicBezTo>
                  <a:pt x="17961" y="5534"/>
                  <a:pt x="16107" y="3794"/>
                  <a:pt x="13896" y="3794"/>
                </a:cubicBezTo>
                <a:cubicBezTo>
                  <a:pt x="11685" y="3794"/>
                  <a:pt x="10014" y="5534"/>
                  <a:pt x="10014" y="7849"/>
                </a:cubicBezTo>
                <a:lnTo>
                  <a:pt x="11868" y="7849"/>
                </a:lnTo>
                <a:cubicBezTo>
                  <a:pt x="11868" y="6709"/>
                  <a:pt x="12791" y="5821"/>
                  <a:pt x="13896" y="5821"/>
                </a:cubicBezTo>
                <a:cubicBezTo>
                  <a:pt x="15002" y="5821"/>
                  <a:pt x="15933" y="6709"/>
                  <a:pt x="15933" y="7849"/>
                </a:cubicBezTo>
                <a:cubicBezTo>
                  <a:pt x="15933" y="8589"/>
                  <a:pt x="15463" y="9320"/>
                  <a:pt x="15002" y="9320"/>
                </a:cubicBezTo>
                <a:cubicBezTo>
                  <a:pt x="13896" y="9320"/>
                  <a:pt x="12791" y="10800"/>
                  <a:pt x="12791" y="12323"/>
                </a:cubicBezTo>
                <a:lnTo>
                  <a:pt x="12791" y="1428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539640" y="5229360"/>
            <a:ext cx="1295640" cy="1008000"/>
          </a:xfrm>
          <a:custGeom>
            <a:avLst/>
            <a:gdLst>
              <a:gd name="textAreaLeft" fmla="*/ 65160 w 1295640"/>
              <a:gd name="textAreaRight" fmla="*/ 1230480 w 1295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7762" h="21600">
                <a:moveTo>
                  <a:pt x="0" y="0"/>
                </a:moveTo>
                <a:lnTo>
                  <a:pt x="27762" y="0"/>
                </a:lnTo>
                <a:lnTo>
                  <a:pt x="27762" y="21600"/>
                </a:lnTo>
                <a:lnTo>
                  <a:pt x="0" y="21600"/>
                </a:lnTo>
                <a:close/>
              </a:path>
              <a:path fill="lightenLess" w="27762" h="21600">
                <a:moveTo>
                  <a:pt x="0" y="0"/>
                </a:moveTo>
                <a:lnTo>
                  <a:pt x="27762" y="0"/>
                </a:lnTo>
                <a:lnTo>
                  <a:pt x="26362" y="1400"/>
                </a:lnTo>
                <a:lnTo>
                  <a:pt x="1400" y="1400"/>
                </a:lnTo>
                <a:close/>
              </a:path>
              <a:path fill="darken" w="27762" h="21600">
                <a:moveTo>
                  <a:pt x="27762" y="0"/>
                </a:moveTo>
                <a:lnTo>
                  <a:pt x="27762" y="21600"/>
                </a:lnTo>
                <a:lnTo>
                  <a:pt x="26362" y="20200"/>
                </a:lnTo>
                <a:lnTo>
                  <a:pt x="26362" y="1400"/>
                </a:lnTo>
                <a:close/>
              </a:path>
              <a:path fill="darkenLess" w="27762" h="21600">
                <a:moveTo>
                  <a:pt x="27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2" y="20200"/>
                </a:lnTo>
                <a:close/>
              </a:path>
              <a:path fill="lighten" w="27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2" h="21600">
                <a:moveTo>
                  <a:pt x="1388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62" h="21600">
                <a:moveTo>
                  <a:pt x="14986" y="14281"/>
                </a:moveTo>
                <a:lnTo>
                  <a:pt x="14986" y="12323"/>
                </a:lnTo>
                <a:cubicBezTo>
                  <a:pt x="14986" y="11496"/>
                  <a:pt x="15317" y="10800"/>
                  <a:pt x="15917" y="10800"/>
                </a:cubicBezTo>
                <a:cubicBezTo>
                  <a:pt x="17049" y="10800"/>
                  <a:pt x="17945" y="9434"/>
                  <a:pt x="17945" y="7849"/>
                </a:cubicBezTo>
                <a:cubicBezTo>
                  <a:pt x="17945" y="5534"/>
                  <a:pt x="16091" y="3794"/>
                  <a:pt x="13881" y="3794"/>
                </a:cubicBezTo>
                <a:cubicBezTo>
                  <a:pt x="11670" y="3794"/>
                  <a:pt x="9999" y="5534"/>
                  <a:pt x="9999" y="7849"/>
                </a:cubicBezTo>
                <a:lnTo>
                  <a:pt x="11853" y="7849"/>
                </a:lnTo>
                <a:cubicBezTo>
                  <a:pt x="11853" y="6709"/>
                  <a:pt x="12775" y="5821"/>
                  <a:pt x="13881" y="5821"/>
                </a:cubicBezTo>
                <a:cubicBezTo>
                  <a:pt x="14986" y="5821"/>
                  <a:pt x="15917" y="6709"/>
                  <a:pt x="15917" y="7849"/>
                </a:cubicBezTo>
                <a:cubicBezTo>
                  <a:pt x="15917" y="8589"/>
                  <a:pt x="15447" y="9320"/>
                  <a:pt x="14986" y="9320"/>
                </a:cubicBezTo>
                <a:cubicBezTo>
                  <a:pt x="13881" y="9320"/>
                  <a:pt x="12775" y="10800"/>
                  <a:pt x="12775" y="12323"/>
                </a:cubicBezTo>
                <a:lnTo>
                  <a:pt x="12775" y="14281"/>
                </a:lnTo>
                <a:close/>
              </a:path>
            </a:pathLst>
          </a:cu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962360" y="2513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1838520" y="3933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ublic of South 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1837800" y="5516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~PP1547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smiley_surprised"/>
          <p:cNvPicPr/>
          <p:nvPr/>
        </p:nvPicPr>
        <p:blipFill>
          <a:blip r:embed="rId1"/>
          <a:stretch/>
        </p:blipFill>
        <p:spPr>
          <a:xfrm>
            <a:off x="2411280" y="2421000"/>
            <a:ext cx="4105440" cy="3421080"/>
          </a:xfrm>
          <a:prstGeom prst="rect">
            <a:avLst/>
          </a:prstGeom>
          <a:ln w="0">
            <a:noFill/>
          </a:ln>
        </p:spPr>
      </p:pic>
      <p:sp>
        <p:nvSpPr>
          <p:cNvPr id="171" name="WordArt 7"/>
          <p:cNvSpPr txBox="1"/>
          <p:nvPr/>
        </p:nvSpPr>
        <p:spPr>
          <a:xfrm>
            <a:off x="539640" y="620640"/>
            <a:ext cx="83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GRATS A+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2" name="~PP296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sad-animated-animation-boy-smiley-emoticon-000346-design"/>
          <p:cNvPicPr/>
          <p:nvPr/>
        </p:nvPicPr>
        <p:blipFill>
          <a:blip r:embed="rId1"/>
          <a:stretch/>
        </p:blipFill>
        <p:spPr>
          <a:xfrm>
            <a:off x="2843280" y="1700280"/>
            <a:ext cx="3514680" cy="3127320"/>
          </a:xfrm>
          <a:prstGeom prst="rect">
            <a:avLst/>
          </a:prstGeom>
          <a:ln w="0">
            <a:noFill/>
          </a:ln>
        </p:spPr>
      </p:pic>
      <p:sp>
        <p:nvSpPr>
          <p:cNvPr id="174" name="WordArt 6"/>
          <p:cNvSpPr txBox="1"/>
          <p:nvPr/>
        </p:nvSpPr>
        <p:spPr>
          <a:xfrm>
            <a:off x="430200" y="333360"/>
            <a:ext cx="871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 should listen next tim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5" name="~PP3625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The River Thames is in Lond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A lot of people depend on the River Thame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Arial Rounded MT Bold"/>
              </a:rPr>
              <a:t>It is used for many different  reasons such as wast disposal and water usage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3" name="Rectangle 3" descr=""/>
          <p:cNvPicPr/>
          <p:nvPr/>
        </p:nvPicPr>
        <p:blipFill>
          <a:blip r:embed="rId1"/>
          <a:stretch/>
        </p:blipFill>
        <p:spPr>
          <a:xfrm>
            <a:off x="-6480" y="-384120"/>
            <a:ext cx="9137880" cy="1109520"/>
          </a:xfrm>
          <a:prstGeom prst="rect">
            <a:avLst/>
          </a:prstGeom>
          <a:ln w="0">
            <a:noFill/>
          </a:ln>
        </p:spPr>
      </p:pic>
      <p:pic>
        <p:nvPicPr>
          <p:cNvPr id="104" name="~PP1476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3" descr=""/>
          <p:cNvPicPr/>
          <p:nvPr/>
        </p:nvPicPr>
        <p:blipFill>
          <a:blip r:embed="rId1"/>
          <a:stretch/>
        </p:blipFill>
        <p:spPr>
          <a:xfrm>
            <a:off x="2157480" y="2182680"/>
            <a:ext cx="4236840" cy="2767320"/>
          </a:xfrm>
          <a:prstGeom prst="rect">
            <a:avLst/>
          </a:prstGeom>
          <a:ln w="0">
            <a:noFill/>
          </a:ln>
        </p:spPr>
      </p:pic>
      <p:pic>
        <p:nvPicPr>
          <p:cNvPr id="177" name="~PP1900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3" descr=""/>
          <p:cNvPicPr/>
          <p:nvPr/>
        </p:nvPicPr>
        <p:blipFill>
          <a:blip r:embed="rId1"/>
          <a:stretch/>
        </p:blipFill>
        <p:spPr>
          <a:xfrm>
            <a:off x="1494000" y="-341280"/>
            <a:ext cx="5583240" cy="1152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500040" y="142884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don is the most crowded place in the UK, and all the people have a big effect on the River Th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air tends to be cleaner. A big settlement like London is busy and noisy with lots of people, buildings, roads and cars. Gases generated by cars and  pollute the atmosphe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~PP1057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4000"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500120" y="1285920"/>
            <a:ext cx="685800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onstantia"/>
              </a:rPr>
              <a:t>the amount and variety of habitats available to other creatures is reduc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Constantia"/>
              </a:rPr>
              <a:t>noise and numbers of people can discourage wildlif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Rectangle 5" descr=""/>
          <p:cNvPicPr/>
          <p:nvPr/>
        </p:nvPicPr>
        <p:blipFill>
          <a:blip r:embed="rId1"/>
          <a:stretch/>
        </p:blipFill>
        <p:spPr>
          <a:xfrm>
            <a:off x="480960" y="42840"/>
            <a:ext cx="8358120" cy="1816200"/>
          </a:xfrm>
          <a:prstGeom prst="rect">
            <a:avLst/>
          </a:prstGeom>
          <a:ln w="0">
            <a:noFill/>
          </a:ln>
        </p:spPr>
      </p:pic>
      <p:pic>
        <p:nvPicPr>
          <p:cNvPr id="110" name="~PP392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Riverside property is always  a popular place for people to build on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Over the years, much of the natural river bank has been overtaken by buildings and material like concrete and brick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The sides of the river have been changed as well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onstantia"/>
              </a:rPr>
              <a:t>People have replaced natural slopes with walls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2" name="Rectangle 3" descr=""/>
          <p:cNvPicPr/>
          <p:nvPr/>
        </p:nvPicPr>
        <p:blipFill>
          <a:blip r:embed="rId1"/>
          <a:stretch/>
        </p:blipFill>
        <p:spPr>
          <a:xfrm>
            <a:off x="-457200" y="-231840"/>
            <a:ext cx="9021600" cy="1974960"/>
          </a:xfrm>
          <a:prstGeom prst="rect">
            <a:avLst/>
          </a:prstGeom>
          <a:ln w="0">
            <a:noFill/>
          </a:ln>
        </p:spPr>
      </p:pic>
      <p:pic>
        <p:nvPicPr>
          <p:cNvPr id="113" name="~PP2974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17146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nstantia"/>
              </a:rPr>
              <a:t>covering natural banks stops plants growing; animals are unable to burrow into the bank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nstantia"/>
              </a:rPr>
              <a:t>plants cannot establish themselves on vertical sheet piling or smooth concrete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Constantia"/>
              </a:rPr>
              <a:t>fewer plants mean fewer animals further up the food chain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743040" y="255600"/>
            <a:ext cx="7053120" cy="1103400"/>
          </a:xfrm>
          <a:prstGeom prst="rect">
            <a:avLst/>
          </a:prstGeom>
          <a:ln w="0">
            <a:noFill/>
          </a:ln>
        </p:spPr>
      </p:pic>
      <p:pic>
        <p:nvPicPr>
          <p:cNvPr id="116" name="~PP1003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Humans produce a huge amount of rubbish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Some of this rubbish is not disposed and may end up in rivers and other waterways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How long the rubbish stays in the river depends on what it is made of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nstantia"/>
              </a:rPr>
              <a:t>Some plastics are only able to be broken down by bacteria and take years to break up and disappear. 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Rectangle 3" descr=""/>
          <p:cNvPicPr/>
          <p:nvPr/>
        </p:nvPicPr>
        <p:blipFill>
          <a:blip r:embed="rId1"/>
          <a:stretch/>
        </p:blipFill>
        <p:spPr>
          <a:xfrm>
            <a:off x="500040" y="176040"/>
            <a:ext cx="8242200" cy="1135080"/>
          </a:xfrm>
          <a:prstGeom prst="rect">
            <a:avLst/>
          </a:prstGeom>
          <a:ln w="0">
            <a:noFill/>
          </a:ln>
        </p:spPr>
      </p:pic>
      <p:pic>
        <p:nvPicPr>
          <p:cNvPr id="119" name="~PP829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rubbish looks ugly and makes people think that the Thames is dirtier than it is and not worth caring for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creatures can get trapped inside rubbish like bottles, packets and plastic bag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fishing lines and can holders can ensnare both birds and fish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f3ca"/>
                </a:solidFill>
                <a:latin typeface="Constantia"/>
              </a:rPr>
              <a:t>sharp objects such as fishing hooks and broken bottles are a danger to humans as well as to the wildlif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Rectangle 3" descr=""/>
          <p:cNvPicPr/>
          <p:nvPr/>
        </p:nvPicPr>
        <p:blipFill>
          <a:blip r:embed="rId1"/>
          <a:stretch/>
        </p:blipFill>
        <p:spPr>
          <a:xfrm>
            <a:off x="324000" y="291960"/>
            <a:ext cx="7472160" cy="1135080"/>
          </a:xfrm>
          <a:prstGeom prst="rect">
            <a:avLst/>
          </a:prstGeom>
          <a:ln w="0">
            <a:noFill/>
          </a:ln>
        </p:spPr>
      </p:pic>
      <p:pic>
        <p:nvPicPr>
          <p:cNvPr id="122" name="~PP61.WAV" descr=""/>
          <p:cNvPicPr/>
          <p:nvPr/>
        </p:nvPicPr>
        <p:blipFill>
          <a:blip r:embed="rId2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es this is bad but click on the box to see some pictur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843280" y="0"/>
            <a:ext cx="2838240" cy="14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oudy Stout"/>
              </a:rPr>
              <a:t>Oh No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125" name="AutoShape 5">
            <a:hlinkClick r:id="rId1"/>
          </p:cNvPr>
          <p:cNvSpPr/>
          <p:nvPr/>
        </p:nvSpPr>
        <p:spPr>
          <a:xfrm>
            <a:off x="304920" y="2895480"/>
            <a:ext cx="1523880" cy="129564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WordArt 7"/>
          <p:cNvSpPr txBox="1"/>
          <p:nvPr/>
        </p:nvSpPr>
        <p:spPr>
          <a:xfrm>
            <a:off x="1828800" y="3124080"/>
            <a:ext cx="269244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Picture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7" name="~PP1762.WAV" descr=""/>
          <p:cNvPicPr/>
          <p:nvPr/>
        </p:nvPicPr>
        <p:blipFill>
          <a:blip r:embed="rId5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4:54:57Z</dcterms:created>
  <dc:creator>kara.durante</dc:creator>
  <dc:description/>
  <dc:language>en-US</dc:language>
  <cp:lastModifiedBy>Dell</cp:lastModifiedBy>
  <dcterms:modified xsi:type="dcterms:W3CDTF">2009-05-20T09:22:28Z</dcterms:modified>
  <cp:revision>38</cp:revision>
  <dc:subject/>
  <dc:title>Slide 1</dc:title>
</cp:coreProperties>
</file>